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FF8-4701-4E0E-98AB-059B604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F70-19E0-4CA4-B90C-385773B6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AA7-56C5-4210-8827-61EFB3A7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87D-F3FD-49A7-91C4-5629C855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3341-91ED-4F4C-B84C-26D31A91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5276-07E6-4319-BDB3-226FEFFD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C89-FF29-43A4-BE08-E3922B0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A7AB-88C5-4BFB-B5DF-224785C3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64ED-8066-45A0-A4B2-F17D5A5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C3B7-3B36-4A6B-9430-061C2689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B7A9-7F0F-4C00-A26C-68E810D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B29-E8B6-4E74-AD17-9BBAE63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8560-7609-4722-B37C-C4DB5D0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D25-F770-46FB-B567-0EE46100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9ECB-903D-436C-9BDF-6154A43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156-7D7B-49BA-8D53-1CC858D4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130-2A1F-46EA-832C-B7230618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919-ADDD-48AF-9D9D-42FC6458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511-DEE0-4EC4-90C5-E9A54CC6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1A6-AEC7-4E28-920C-CB1784F2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4A8-FC44-4630-A621-F6E901F2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8BE-3537-4BC8-9903-4DD0BE9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A82-6656-41DF-A480-D4E7F0D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FC7-CF3E-40B8-BA16-AF4F544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9050-7E60-40BE-9EBC-17ED4818C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F114-DB0F-4EBD-B98F-AE3F2562A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hapter 35: Franklin D. Roosevelt and the Shadow of Wa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-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sem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ich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peas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voiding war by making conc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democracies allowed Hitler Sudetenland for “peace in our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220px-Bundesarchiv_Bild_146-1976-063-32,_Bad_Godesberg,_M%C3%BCnchener_Abkommen,_Vorbereitung"/>
          <p:cNvPicPr/>
          <p:nvPr/>
        </p:nvPicPr>
        <p:blipFill>
          <a:blip r:embed="rId1"/>
          <a:stretch/>
        </p:blipFill>
        <p:spPr>
          <a:xfrm>
            <a:off x="3657600" y="4419720"/>
            <a:ext cx="168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seuss"/>
          <p:cNvPicPr/>
          <p:nvPr/>
        </p:nvPicPr>
        <p:blipFill>
          <a:blip r:embed="rId1"/>
          <a:stretch/>
        </p:blipFill>
        <p:spPr>
          <a:xfrm>
            <a:off x="1371600" y="762120"/>
            <a:ext cx="6629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tler’s Belligerenc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Stalin &amp; Hitler sign nonaggression treaty in Aug. 1939 (Nazi-Soviet Pac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 now free to make war on Poland &amp; western democracies w/o fearing Sovie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ed land from Poland that was wrested from Germany post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Poland Sept. 1, 19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095880" y="4743360"/>
            <a:ext cx="21272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 Neutral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&amp; France declare war o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up appeas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nd falls in just 3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proclaims neutrality (Neutrality Act of 193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&amp; France neede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utrality Act of 19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sh and Ca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democracies can buy US war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ll of F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y Wa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s attack Fin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0- Hitler attacks Denmark, Norway, Belgium &amp;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surrenders after Mussolini joins w/ Hi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ll Always be an Engl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sent $37 billion to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 of European colonies in New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troyer De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stood between Hitler &amp; his dream of world d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attacks against Britain, 1940 (Battle of Brit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e over isolationism vs. interven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 to Defend America by Aiding the Al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transferred 50 destroyers to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on of 194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: Wendell L. Will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mned New Deal &amp; FDR “dictatorshi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: F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2-term trad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a Third Term than a Third Ra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omised to stay out of war &amp; strengthen nations’ def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w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172200" y="4973760"/>
            <a:ext cx="29718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153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nd-L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would send a limitless supply of arms to victims of aggression, who in turn would keep the fight on their side of the Atlan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ated by people &amp; Congr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declaration of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andonment of pretense of neut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begins attacking US ship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bin Mo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lantic Char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’s invasion of Soviet Union, June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promised assistance ($1 bill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1 bill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asion hal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ston Churchill &amp; F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lantic Char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spirations of democracies for better world at war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32497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ndon Con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ndon Conference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6 count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 political attack on global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rate stab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R withdrew America from negotiations- every man for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e of London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ternational cooperation more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h with Hit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sends convoy to escort British lend-lease shi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ships attacked by German u-boa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re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ear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uben J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moving away from neut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ships could now enter combat zones a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 + Germany= formal allies, Sep. 1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embargo on Japan-bound supplies, 1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zing of Japanese assets in US &amp; ending gasoline ship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se negotiations, late 1941: US insists that Japan pull out of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 chose war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arl Harb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7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ate which will live in infam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anese bombers attack w/o 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000 casu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declares war on Japan the next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1- Germany &amp; Italy declare war on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553080" y="52560"/>
            <a:ext cx="25909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013360" cy="409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5021280" y="2286000"/>
            <a:ext cx="4122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lipinos &amp; Russi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dings-McDuffie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d for independence of Philippines after 12 y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ing themselves from economic burden of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formally recognized Soviet Union in 19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y against German &amp; Japanese th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d Neighb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red that US was giving up status as worl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eager to have Latin American countries help defend w.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ood Neighbor Poli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mphasis on consultation &amp; nonintervention in Lat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a of friend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auded in Lat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batista-fdr"/>
          <p:cNvPicPr/>
          <p:nvPr/>
        </p:nvPicPr>
        <p:blipFill>
          <a:blip r:embed="rId1"/>
          <a:stretch/>
        </p:blipFill>
        <p:spPr>
          <a:xfrm>
            <a:off x="6781680" y="4794120"/>
            <a:ext cx="23623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iprocal Trade Agre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H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lift American export trade from the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 &amp;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d low-tariff policies of New Dea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most objectionable schedules of Hawley- Smoot Tar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foreign trade increased, trade agre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ved the way for American free-trade economi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anish Civil 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-19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rebels attempted to overthrow loyalist regime in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ed by Soviet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placed arms embargo on both rebels &amp; loy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so determined to stay out of war, it condemned fellow 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dic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SpanishCivilWar-1(RBM)"/>
          <p:cNvPicPr/>
          <p:nvPr/>
        </p:nvPicPr>
        <p:blipFill>
          <a:blip r:embed="rId1"/>
          <a:stretch/>
        </p:blipFill>
        <p:spPr>
          <a:xfrm>
            <a:off x="6553080" y="5097600"/>
            <a:ext cx="25909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asing Japan &amp; German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, Japan attacks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=neutra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antine Spee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- FDR called for positive endeavors to quarantine the aggressive count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sts by isolationists (moral quarantin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ght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Elt200811251918380665359"/>
          <p:cNvPicPr/>
          <p:nvPr/>
        </p:nvPicPr>
        <p:blipFill>
          <a:blip r:embed="rId1"/>
          <a:stretch/>
        </p:blipFill>
        <p:spPr>
          <a:xfrm>
            <a:off x="5715000" y="4832280"/>
            <a:ext cx="30481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ANd9GcRva_VMit5KWAmlE0k6oNMdDz6U65-4l9tEUtCG6kW6pwFf_5am"/>
          <p:cNvPicPr/>
          <p:nvPr/>
        </p:nvPicPr>
        <p:blipFill>
          <a:blip r:embed="rId1"/>
          <a:stretch/>
        </p:blipFill>
        <p:spPr>
          <a:xfrm>
            <a:off x="1828800" y="152280"/>
            <a:ext cx="55180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rantine Tes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. 1937- Japan sinks American gunboat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n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n Chi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tler grew louder &amp; bolder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lsory military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ed into demilitarized German Rhin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ecuted &amp; exterminated Jewis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ied Aust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ed Sudeten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2:38:21Z</dcterms:created>
  <dc:creator>emily.johnson</dc:creator>
  <dc:description/>
  <dc:language>en-US</dc:language>
  <cp:lastModifiedBy>emily.johnson</cp:lastModifiedBy>
  <dcterms:modified xsi:type="dcterms:W3CDTF">2013-03-22T12:08:54Z</dcterms:modified>
  <cp:revision>10</cp:revision>
  <dc:subject/>
  <dc:title>Chapter 35: Franklin D. Roosevelt and the Shadow of War</dc:title>
</cp:coreProperties>
</file>